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5EA2-4DE3-4201-B78D-BD7EA532D5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и        коммуник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в управлении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ФИНАНСЫ И МЕНЕДЖМЕНТ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преп. Канафина А.Т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я и        коммуник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в управлении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ФЕДРА «ФИНАНСЫ И МЕНЕДЖМЕНТ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. преп. Канафина А.Т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и        коммуник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в управлен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ФИНАНСЫ И 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преп. Канафина А.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1. Элементы коммуникацио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1. Элементы коммуникационного процесс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элемент – источник – это человек или группа людей, формулирующие идею, мнение и т.п. и желающие передать их другому человеку или другим люд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ой элемент – это само сообщение, которое передается от источника другому человеку или другим люд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ий элемент – канал – это среда, через которую передается сообщ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вертый элемент – приемник – человек или группа людей, принимающие со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элемент – источник – это человек или группа людей, формулирующие идею, мнение и т.п. и желающие передать их другому человеку или другим людям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ой элемент – это само сообщение, которое передается от источника другому человеку или другим людям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ий элемент – канал – это среда, через которую передается сообщение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вертый элемент – приемник – человек или группа людей, принимающие сообщения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стадия коммуникативного процесса – создание сообщения – осмысливание того, что источник хочет сообщить приемнику, осознание источником того, что сообщение будет понятно приемн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стадия – кодирование – мнение, мысль, идея и т.п. выражаются в виде символов (их можно увидеть, услышать, ощутить), которые становятся выразителями смысла сообщения, должны быть понятны приемнику (слова, жесты, мимика, звуки, схемы, рисунки и т.п.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стадия коммуникативного процесса – создание сообщения – осмысливание того, что источник хочет сообщить приемнику, осознание источником того, что сообщение будет понятно приемнику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стадия – кодирование – мнение, мысль, идея и т.п. выражаются в виде символов (их можно увидеть, услышать, ощутить), которые становятся выразителями смысла сообщения, должны быть понятны приемнику (слова, жесты, мимика, звуки, схемы, рисунки и т.п.)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ья стадия – передача – мнение, мысли, идея и т.п., закодированные с помощью символов в сообщение передается приемнику через воспроизведение символов: показом жестов, исполнение музыки, демонстрация фильма, рисунков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вёртая стадия – прием – представляет собой получение сообщения приемником. Условия окружающей среды могут эффективно влиять на приём сообщения, а могут ему препятствовать. Важны правильность и точность приема сообщений, что зависит от того, на какое из чувств приемника (зрение, слух, ощущение, осязание, обоняние) эта информация оказывает наибольшее воздейств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ья стадия – передача – мнение, мысли, идея и т.п., закодированные с помощью символов в сообщение передается приемнику через воспроизведение символов: показом жестов, исполнение музыки, демонстрация фильма, рисунков и т.п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вёртая стадия – прием – представляет собой получение сообщения приемником. Условия окружающей среды могут эффективно влиять на приём сообщения, а могут ему препятствовать. Важны правильность и точность приема сообщений, что зависит от того, на какое из чувств приемника (зрение, слух, ощущение, осязание, обоняние) эта информация оказывает наибольшее воздействие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ятая стадия – расшифровка – подготовка информации, полученной приемником для восприятия её значения. Эффективность её зависит от знания приемником символов, с помощью которых она зашифрована. Для высокой эффективности расшифровки между источником и преемником должны быть постоянные прямые и обратные связ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стая стадия – восприятие – это конечный этап коммуникационного процес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ятая стадия – расшифровка – подготовка информации, полученной приемником для восприятия её значения. Эффективность её зависит от знания приемником символов, с помощью которых она зашифрована. Для высокой эффективности расшифровки между источником и преемником должны быть постоянные прямые и обратные связи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стая стадия – восприятие – это конечный этап коммуникационного процесса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оженные в сообщении идеи и мысли должны интегрироваться и быть связаны с той информацией, которой приемник уже владеет. Без такой ассимиляции, содержащиеся в расшифрованном сообщении символы, могут остаться бесполезными, не базируясь на известной для приемника информ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оженные в сообщении идеи и мысли должны интегрироваться и быть связаны с той информацией, которой приемник уже владеет. Без такой ассимиляции, содержащиеся в расшифрованном сообщении символы, могут остаться бесполезными, не базируясь на известной для приемника информации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коммун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модель коммуникации была разработана ещё Аристотелем и включала в себя 3 эле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ящий – человек, который говори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чь – речь, которую произносит челове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дитория – те, кто слуш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коммуник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модель коммуникации была разработана ещё Аристотелем и включала в себя 3 элемента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ящий – человек, который говорит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чь – речь, которую произносит человек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дитория – те, кто слушает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окое распространение получила линейная модель, разработанная американским социологом Г. Лассуэллом и включающая 5 элемент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Кто? (передаёт сообщение) – коммуник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Что? (передаётся) – сообщ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Как? (осуществляется передача) – кан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ому? (направлено сообщение) – аудит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С каким эффектом? – результ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окое распространение получила линейная модель, разработанная американским социологом Г. Лассуэллом и включающая 5 элементов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Кто? (передаёт сообщение) – коммуникатор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Что? (передаётся) – сообщ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Как? (осуществляется передача) – кана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ому? (направлено сообщение) – аудитор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С каким эффектом? – результа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ели Шеннона-Уивера коммуникация описывается как линейный односторонний процесс. Согласно его теории, компонентами коммуникации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ой задачей было снижение «шума» и максимальное облегчение обмена информ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ели Шеннона-Уивера коммуникация описывается как линейный односторонний процесс. Согласно его теории, компонентами коммуникации являются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тель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тель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ой задачей было снижение «шума» и максимальное облегчение обмена информацией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ние       сигнал       ченный      сообщ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3 Модель коммуникации Шеннона-Уив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ние       сигнал       ченный      сообщ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3 Модель коммуникации Шеннона-Уивер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, значение и классификация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оммуникационный процесс, его понятие и зна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Информационные технологии в управлен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, значение и классификация информации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оммуникационный процесс, его понятие и знач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Информационные технологии в управленческой деятельности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 данной схемы состоит в очевидности того, что сообщение, отправленное источником и сообщение, достигнутое реципиента, имеют неодинаковое зна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особность участников коммуникации осознать, что посланное и полученное сообщение не всегда совпадают, является частой причиной затруднений коммуникационного обмена (эта мысль заложена в модели Шеннона-Уивер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Шеннона-Уивера расширил ДеФлю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 данной схемы состоит в очевидности того, что сообщение, отправленное источником и сообщение, достигнутое реципиента, имеют неодинаковое значение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особность участников коммуникации осознать, что посланное и полученное сообщение не всегда совпадают, является частой причиной затруднений коммуникационного обмена (эта мысль заложена в модели Шеннона-Уивера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Шеннона-Уивера расширил ДеФлюер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4. Модель коммуникации ДеФлю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брат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4. Модель коммуникации ДеФлюер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братна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ркулярная модель Шрама-Осг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лементы мод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рес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ркулярная модель Шрама-Осгу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лементы модели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ресат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5 Модель коммуникации Шрамма-Осг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5 Модель коммуникации Шрамма-Осгу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тивные барь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коммуникативным барьером обычно понимают все то, что препятствует эффективной коммуникации и блокирует её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Шепель выделил 6 явных барье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искомфорт физической среды, в условиях которой воспринимается сооб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тивные барьер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коммуникативным барьером обычно понимают все то, что препятствует эффективной коммуникации и блокирует её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Шепель выделил 6 явных барьеров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искомфорт физической среды, в условиях которой воспринимается сообщение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нерция включенности, т.е. озабоченность слушателя др. пробле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Антипатия к чужим мыслям, стереотипизированность сознания, амбициоз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Языковой барьер – существенное различие словарного запаса, лексикона коммуникатора и аудито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фессиональное неприятие – некомпетентное вторжения коммуникатора в профессиональную сферу собесед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Неприятие имиджа другого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нерция включенности, т.е. озабоченность слушателя др. проблемам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Антипатия к чужим мыслям, стереотипизированность сознания, амбициозность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Языковой барьер – существенное различие словарного запаса, лексикона коммуникатора и аудитории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фессиональное неприятие – некомпетентное вторжения коммуникатора в профессиональную сферу собеседника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Неприятие имиджа другого человека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итературе по психологии принято выделять 4 типа барье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етический – невыразительная быстрая или медленная речь, речь-скороговорка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нтический – различие в системах знаний с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истический  - несоответствие стиля речи коммуникатора, ситуации общения и психологического состояния собесед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ий – сложная непонятная или неправильная логики рассужд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итературе по психологии принято выделять 4 типа барьеров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етический – невыразительная быстрая или медленная речь, речь-скороговорка и т.п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нтический – различие в системах знаний слов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истический  - несоответствие стиля речи коммуникатора, ситуации общения и психологического состояния собеседника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ий – сложная непонятная или неправильная логики рассуждений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восприятия информ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ство профессионального язы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т уровня интелл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т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ность из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нтрированность вним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онаци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восприятия информации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ство профессионального язы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т уровня интеллект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та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ность изложе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нтрированность внима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онация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лементы информацио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информационного процесс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обеспечение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назначено для от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, характеризующ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управляемого объект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ющейся основой для при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их решени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ется благодаря созд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обеспечение 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назначено для отраже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, характеризующей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управляемого объекта и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ющейся основой для принят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их решений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ется благодаря созданию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х систе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которые сведения, совокупность данных, имеющих практическое знач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некоторые сведения, совокупность данных, имеющих практическое знач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которые сведения, совокупность данных, имеющих практическое зна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система-совокупность информации, экономико-математических методов, технических, программных средств, специалистов, предназначенная для обработки информации и принятия управленческих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система-совокупность информации, экономико-математических методов, технических, программных средств, специалистов, предназначенная для обработки информации и принятия управленческих реш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систе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ют в себ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оки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ели 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е средства фиксирования, передачи, поиска и обработки д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систе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ют в себ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оки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ы переда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ели 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е средства фиксирования, передачи, поиска и обработки данных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информацион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ованные и децентрализов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е и лок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ые и сло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и научно-тех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ручной, механизированной и автоматизированной обработки информ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информационных систе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ованные и децентрализованны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е и локальны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ые и сложны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и научно-техническ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ручной, механизированной и автоматизированной обработки информации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стемно-организованная последовательность операций, выполняемых над информацией с использованием средств и методов автома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стемно-организованная последовательность операций, выполняемых над информацией с использованием средств и методов автоматиз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ормационн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Сбор и регистрация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страция в машинном носителе, вдокумен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в информационную сист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вода и регист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Сбор и регистрация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страция в машинном носителе, вдокумент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в информационную систем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вода и регистр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ередач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в каналы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сообщений с обратным преобразова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ы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ередача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в каналы связ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разова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сообщений с обратным преобразование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ыво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информации в сист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и контроль вы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бражение результ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ботка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информации в систем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во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и контроль выво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бражение результат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Хранение, поиск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по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ча и актуализация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ыдачи и от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Хранение, поиск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о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поис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ча и актуализация данных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ыдачи и отображе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Анализ, подготовка принятия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сход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 корректир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инятия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Анализ, подготовка принятия реш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сходной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 корректиров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инятия реш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характера информации с управленческими реш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характера информации с управленческими решениям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формирования документ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изображ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о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визуализ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виртуальной реаль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ре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и преобразования сигнал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электронной подпис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ый офи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почт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ем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формирования документ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обработки изображ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о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визуализ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виртуальной реаль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обработки ре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обработки и преобразования сигнал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электронной подпис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ый офи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ая почт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формирования док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изобра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о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визу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виртуальной ре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ре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и преобразования сигн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электронной подпи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ый оф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поч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технологии, используемые в управленческой деятель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медиа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йрокомпьютерн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но-ориентированная 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управления знаниям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ет-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е технологии, используемые в управленческой деятель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льтимедиа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йрокомпьютерн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ктно-ориентированная 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управления знаниям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рнет-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технологии, используемые в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медиа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йрокомпьютерн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но-ориентированная 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управления зна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ет-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лассификация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ая 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ая 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, предъявляемые к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м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(полнота, достаточност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ность (достоверност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кость (возможность применения технических средств обработки и передачи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ность сбора и переда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ен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значность (инф не должна допуск различ толк.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ования, предъявляемые к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м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(полнота, достаточност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ость (достоверност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еж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уаль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 (возможность применения технических средств обработки и передачи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ность сбора и переда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щен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означность (инф не должна допуск различ толк.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, предъявляемые к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(полнота, достаточ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ность (достовер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кость (возможность применения технических средств обработки и передачи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ность сбора и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значность (инф не должна допуск различ толк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я и коммуникацио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я – это общение людей в процессе совместной деятельности, обмен информацией, идеями, мыс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ый процесс – это процесс передачи информации от одного человека другому или другим людям. Одной из самых простых форм этого процесса можно считать разговор двух людей, находящихся ряд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я и коммуникационный процес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я – это общение людей в процессе совместной деятельности, обмен информацией, идеями, мыслями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ый процесс – это процесс передачи информации от одного человека другому или другим людям. Одной из самых простых форм этого процесса можно считать разговор двух людей, находящихся рядом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жные формы коммуникации представляют собой множество прямых и непрямых путей доведения информации до тысяч или миллионов людей в виде сложных процессов. Независимо от сложности коммуникационного процесса его схема состоит из четырех элементов и проходит через шесть стадий (рис. 1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жные формы коммуникации представляют собой множество прямых и непрямых путей доведения информации до тысяч или миллионов людей в виде сложных процессов. Независимо от сложности коммуникационного процесса его схема состоит из четырех элементов и проходит через шесть стадий (рис. 1)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012-C5A1-4749-B813-BE029393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17D9-CEAA-4F0D-9B1E-AED8DFD7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AD14-763D-4A30-B64A-D7ED429E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D281-6765-4968-AEA0-062149D4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D9E1-1947-426D-A944-74927680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A821-5D10-4B88-BD30-FBEA7BD2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2B6A-9264-4225-9758-2E59D0A5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C56A-8675-4387-8C4F-219867FD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211D-C7C1-4DCE-B462-55D8BFEA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2B8B-048C-44D8-93D1-5811DC5B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D375-D76A-4F37-9C10-D4C8A43D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62C7-5F85-4B6D-A303-1CEF205B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3C24-434B-402E-A5E1-B31EC4D7F1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193760"/>
            <a:ext cx="8569080" cy="16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Информация и        коммуникация 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              в управлении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3363840"/>
            <a:ext cx="5905440" cy="18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КАФЕДРА «ФИНАНСЫ И МЕНЕДЖМЕН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Ст. преп. Канафина А.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5803920"/>
            <a:ext cx="8605800" cy="65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Object 4"/>
          <p:cNvGraphicFramePr/>
          <p:nvPr/>
        </p:nvGraphicFramePr>
        <p:xfrm>
          <a:off x="4788000" y="3441600"/>
          <a:ext cx="3930480" cy="301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3441600"/>
                    <a:ext cx="3930480" cy="30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с 1. Элементы коммуникацион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1"/>
          <p:cNvGrpSpPr/>
          <p:nvPr/>
        </p:nvGrpSpPr>
        <p:grpSpPr>
          <a:xfrm>
            <a:off x="1042920" y="1268280"/>
            <a:ext cx="7274160" cy="3241440"/>
            <a:chOff x="1042920" y="1268280"/>
            <a:chExt cx="7274160" cy="3241440"/>
          </a:xfrm>
        </p:grpSpPr>
        <p:sp>
          <p:nvSpPr>
            <p:cNvPr id="82" name="Rectangle 4"/>
            <p:cNvSpPr/>
            <p:nvPr/>
          </p:nvSpPr>
          <p:spPr>
            <a:xfrm>
              <a:off x="1835280" y="1268280"/>
              <a:ext cx="5688000" cy="3241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Канал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6"/>
            <p:cNvSpPr/>
            <p:nvPr/>
          </p:nvSpPr>
          <p:spPr>
            <a:xfrm>
              <a:off x="2916360" y="2563560"/>
              <a:ext cx="352728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ообщение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7"/>
            <p:cNvSpPr/>
            <p:nvPr/>
          </p:nvSpPr>
          <p:spPr>
            <a:xfrm>
              <a:off x="1042920" y="1699920"/>
              <a:ext cx="792360" cy="24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"/>
            <p:cNvSpPr/>
            <p:nvPr/>
          </p:nvSpPr>
          <p:spPr>
            <a:xfrm>
              <a:off x="7524720" y="1699920"/>
              <a:ext cx="792360" cy="24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Ё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й элемент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сточн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человек или группа людей, формулирующие идею, мнение и т.п. и желающие передать их другому человеку или другим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ой элемент – это сам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общ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ое передается от источника другому человеку или другим люд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тий элемент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н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среда, через которую передается сообщ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вертый элемент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емн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человек или группа людей, принимающие сооб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ая стадия коммуникативного процесса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здание сообщ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смысливание того, что источник хочет сообщить приемнику, осознание источником того, что сообщение будет понятно приемн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ая стадия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диров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нение, мысль, идея и т.п. выражаются в виде символов (их можно увидеть, услышать, ощутить), которые становятся выразителями смысла сообщения, должны быть понятны приемнику (слова, жесты, мимика, звуки, схемы, рисунки и т.п.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ретья стадия –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передач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мнение, мысли, идея и т.п., закодированные с помощью символов в сообщение передается приемнику через воспроизведение символов: показом жестов, исполнение музыки, демонстрация фильма, рисунков и т.п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твёртая стадия –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прие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представляет собой получение сообщения приемником. Условия окружающей среды могут эффективно влиять на приём сообщения, а могут ему препятствовать. Важны правильность и точность приема сообщений, что зависит от того, на какое из чувств приемника (зрение, слух, ощущение, осязание, обоняние) эта информация оказывает наибольшее воздейств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ятая стадия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асшифров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одготовка информации, полученной приемником для восприятия её значения. Эффективность её зависит от знания приемником символов, с помощью которых она зашифрована. Для высокой эффективности расшифровки между источником и преемником должны быть постоянны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ямые и обратные связ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стая стадия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осприят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конечный этап коммуникационного процес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ложенные в сообщении идеи и мысли должны интегрироваться и быть связаны с той информацией, которой приемник уже владеет. Без такой ассимиляции, содержащиеся в расшифрованном сообщении символы, могут остаться бесполезными, не базируясь на известной для приемника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одели коммуник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ая модель коммуникации была разработана ещё Аристотелем и включала в себя 3 элемен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орящий – человек, который говор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ь – речь, которую произносит челове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удитория – те, кто слуш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Широкое распростран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лучила линейная модель, разработанная американским социологом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Г. Лассуэллом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 включающая 5 элемент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 Кто? (передаёт сообщение) – коммуника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 Что? (передаётся) – сообщ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 Как? (осуществляется передача) – ка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 Кому? (направлено сообщение) – ауди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5 С каким эффектом? – результ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одел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Шеннона-Уив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ммуникация описывается как линейный односторонний процесс. Согласно его теории, компонентами коммуникац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прав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а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ой задачей было снижение «шума» и максимальное облегчение обмена информац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ние       сигнал       ченный      со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. 3 Модель коммуникации Шеннона-Уив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50920" y="2276640"/>
            <a:ext cx="194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4284720" y="2276640"/>
            <a:ext cx="7938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7451640" y="2205000"/>
            <a:ext cx="11541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411280" y="2276640"/>
            <a:ext cx="1440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пра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ел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4067280" y="3716280"/>
            <a:ext cx="14414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ум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651640" y="2205000"/>
            <a:ext cx="13698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2195640" y="285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3851280" y="27082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5076720" y="270828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7020000" y="27082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 flipV="1">
            <a:off x="4716360" y="2924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 Понятие, значение и классификация информ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Коммуникационный процесс, его понятие и зна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 Информационные технологии в управленческой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имущество данной схемы состоит в очевидности того, что сообщение, отправленное источником и сообщение, достигнутое реципиента, имеют неодинаковое 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пособность участников коммуникации осознать, что посланное и полученное сообщение не всегда совпадают, является частой причиной затруднений коммуникационного обмена (эта мысль заложена в модели Шеннона-Уивер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ь Шеннона-Уивера расширил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еФлю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с 4. Модель коммуникации ДеФлю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50920" y="1241280"/>
            <a:ext cx="165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851280" y="278136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2124000" y="124128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780000" y="124128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5508720" y="124128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7308720" y="1241280"/>
            <a:ext cx="1368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7308720" y="4365720"/>
            <a:ext cx="1368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5580000" y="436572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3851280" y="436572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ал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братн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язь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2195640" y="436572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468360" y="4365720"/>
            <a:ext cx="1511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1908000" y="17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6"/>
          <p:cNvSpPr/>
          <p:nvPr/>
        </p:nvSpPr>
        <p:spPr>
          <a:xfrm>
            <a:off x="3492360" y="1700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>
            <a:off x="5148360" y="17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6877080" y="1700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0"/>
          <p:cNvSpPr/>
          <p:nvPr/>
        </p:nvSpPr>
        <p:spPr>
          <a:xfrm flipH="1">
            <a:off x="694800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1"/>
          <p:cNvSpPr/>
          <p:nvPr/>
        </p:nvSpPr>
        <p:spPr>
          <a:xfrm flipH="1">
            <a:off x="521928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3564000" y="472428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3"/>
          <p:cNvSpPr/>
          <p:nvPr/>
        </p:nvSpPr>
        <p:spPr>
          <a:xfrm flipH="1">
            <a:off x="1979640" y="47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4"/>
          <p:cNvSpPr/>
          <p:nvPr/>
        </p:nvSpPr>
        <p:spPr>
          <a:xfrm flipV="1">
            <a:off x="1116000" y="213372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4500720" y="213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6"/>
          <p:cNvSpPr/>
          <p:nvPr/>
        </p:nvSpPr>
        <p:spPr>
          <a:xfrm flipV="1">
            <a:off x="4500720" y="3645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8028000" y="213372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Циркулярная модель Шрама-Осгу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элементы мод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дировщ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рес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. 5 Модель коммуникации Шрамма-Осг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780000" y="981000"/>
            <a:ext cx="1728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780000" y="4724280"/>
            <a:ext cx="172872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68360" y="1844640"/>
            <a:ext cx="2519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68360" y="2997360"/>
            <a:ext cx="2519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539640" y="4221000"/>
            <a:ext cx="2519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6227640" y="4149720"/>
            <a:ext cx="2519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6227640" y="2997360"/>
            <a:ext cx="2519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6227640" y="1916280"/>
            <a:ext cx="2519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161928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1619280" y="5300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5508720" y="53006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7596360" y="486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 flipV="1">
            <a:off x="1476360" y="148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1476360" y="148428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8"/>
          <p:cNvSpPr/>
          <p:nvPr/>
        </p:nvSpPr>
        <p:spPr>
          <a:xfrm>
            <a:off x="5508720" y="148428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7596360" y="1484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ммуникативные барь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711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коммуникативным барьером обычно понимают все то, что препятствует эффективной коммуникации и блокирует е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Шепель выделил 6 явных барье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Дискомфорт физической среды, в условиях которой воспринимается сообщ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Инерция включенности, т.е. озабоченность слушателя др. проблем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Антипатия к чужим мыслям, стереотипизированность сознания, амбициоз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Языковой барьер – существенное различие словарного запаса, лексикона коммуникатора и аудито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Профессиональное неприятие – некомпетентное вторжения коммуникатора в профессиональную сферу собесед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Неприятие имиджа другого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литературе по психологии принято выделять 4 типа барье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етический – невыразительная быстрая или медленная речь, речь-скороговорка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антический – различие в системах знаний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листический  - несоответствие стиля речи коммуникатора, ситуации общения и психологического состояния собесед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ический – сложная непонятная или неправильная логики рассуж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словия восприятия информа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ство профессиональн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т уровня интелл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ота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ичность из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центрированность вни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онац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лементы информационного проце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395280" y="1557360"/>
            <a:ext cx="8207280" cy="4578480"/>
            <a:chOff x="395280" y="1557360"/>
            <a:chExt cx="8207280" cy="4578480"/>
          </a:xfrm>
        </p:grpSpPr>
        <p:sp>
          <p:nvSpPr>
            <p:cNvPr id="178" name="AutoShape 5"/>
            <p:cNvSpPr/>
            <p:nvPr/>
          </p:nvSpPr>
          <p:spPr>
            <a:xfrm>
              <a:off x="395280" y="1557360"/>
              <a:ext cx="8207280" cy="457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"/>
            <p:cNvSpPr/>
            <p:nvPr/>
          </p:nvSpPr>
          <p:spPr>
            <a:xfrm>
              <a:off x="552600" y="1918440"/>
              <a:ext cx="1736280" cy="108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НЕШ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НУТРЕН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2604240" y="1918440"/>
              <a:ext cx="4895640" cy="96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ЗАЩИТ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</a:rPr>
                <a:t>СБОР                                                                                                  ПЕРЕДАЧА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3393360" y="2400120"/>
              <a:ext cx="2841840" cy="12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ЕОБРАЗОВ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ЗАПОМИН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9"/>
            <p:cNvSpPr/>
            <p:nvPr/>
          </p:nvSpPr>
          <p:spPr>
            <a:xfrm>
              <a:off x="3078360" y="2882880"/>
              <a:ext cx="394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0"/>
            <p:cNvSpPr/>
            <p:nvPr/>
          </p:nvSpPr>
          <p:spPr>
            <a:xfrm>
              <a:off x="2288880" y="2400120"/>
              <a:ext cx="3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1"/>
            <p:cNvSpPr/>
            <p:nvPr/>
          </p:nvSpPr>
          <p:spPr>
            <a:xfrm>
              <a:off x="2288880" y="2521440"/>
              <a:ext cx="3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2"/>
            <p:cNvSpPr/>
            <p:nvPr/>
          </p:nvSpPr>
          <p:spPr>
            <a:xfrm>
              <a:off x="1026720" y="2279880"/>
              <a:ext cx="1104480" cy="36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3"/>
            <p:cNvSpPr/>
            <p:nvPr/>
          </p:nvSpPr>
          <p:spPr>
            <a:xfrm>
              <a:off x="710280" y="2159640"/>
              <a:ext cx="1419480" cy="48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Источники информации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4"/>
            <p:cNvSpPr/>
            <p:nvPr/>
          </p:nvSpPr>
          <p:spPr>
            <a:xfrm>
              <a:off x="2604240" y="240012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5"/>
            <p:cNvSpPr/>
            <p:nvPr/>
          </p:nvSpPr>
          <p:spPr>
            <a:xfrm>
              <a:off x="6866280" y="240012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6"/>
            <p:cNvSpPr/>
            <p:nvPr/>
          </p:nvSpPr>
          <p:spPr>
            <a:xfrm>
              <a:off x="3393360" y="2882880"/>
              <a:ext cx="945720" cy="48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Первичная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обработка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7"/>
            <p:cNvSpPr/>
            <p:nvPr/>
          </p:nvSpPr>
          <p:spPr>
            <a:xfrm>
              <a:off x="5287680" y="2882880"/>
              <a:ext cx="948960" cy="48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одиров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8"/>
            <p:cNvSpPr/>
            <p:nvPr/>
          </p:nvSpPr>
          <p:spPr>
            <a:xfrm>
              <a:off x="4340520" y="2882880"/>
              <a:ext cx="947160" cy="48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тображе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9"/>
            <p:cNvSpPr/>
            <p:nvPr/>
          </p:nvSpPr>
          <p:spPr>
            <a:xfrm>
              <a:off x="7340400" y="2400120"/>
              <a:ext cx="15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0"/>
            <p:cNvSpPr/>
            <p:nvPr/>
          </p:nvSpPr>
          <p:spPr>
            <a:xfrm flipH="1">
              <a:off x="6076440" y="2400120"/>
              <a:ext cx="14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>
              <a:off x="2604240" y="2400120"/>
              <a:ext cx="94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2"/>
            <p:cNvSpPr/>
            <p:nvPr/>
          </p:nvSpPr>
          <p:spPr>
            <a:xfrm>
              <a:off x="7182720" y="3244320"/>
              <a:ext cx="126216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игнал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оситель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3"/>
            <p:cNvSpPr/>
            <p:nvPr/>
          </p:nvSpPr>
          <p:spPr>
            <a:xfrm>
              <a:off x="7483320" y="2533320"/>
              <a:ext cx="31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4"/>
            <p:cNvSpPr/>
            <p:nvPr/>
          </p:nvSpPr>
          <p:spPr>
            <a:xfrm>
              <a:off x="7813080" y="2521440"/>
              <a:ext cx="0" cy="7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5"/>
            <p:cNvSpPr/>
            <p:nvPr/>
          </p:nvSpPr>
          <p:spPr>
            <a:xfrm>
              <a:off x="7182720" y="3485520"/>
              <a:ext cx="12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6"/>
            <p:cNvSpPr/>
            <p:nvPr/>
          </p:nvSpPr>
          <p:spPr>
            <a:xfrm>
              <a:off x="7970760" y="2038680"/>
              <a:ext cx="316080" cy="108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7"/>
            <p:cNvSpPr/>
            <p:nvPr/>
          </p:nvSpPr>
          <p:spPr>
            <a:xfrm>
              <a:off x="2763000" y="4208400"/>
              <a:ext cx="4897080" cy="96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ЗАЩИТ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ЫДАЧА                                                                                          ПРИЕМ</a:t>
              </a: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8"/>
            <p:cNvSpPr/>
            <p:nvPr/>
          </p:nvSpPr>
          <p:spPr>
            <a:xfrm>
              <a:off x="3867480" y="4690080"/>
              <a:ext cx="2842920" cy="84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ЗАПОМИН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9"/>
            <p:cNvSpPr/>
            <p:nvPr/>
          </p:nvSpPr>
          <p:spPr>
            <a:xfrm>
              <a:off x="2763000" y="4690080"/>
              <a:ext cx="110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30"/>
            <p:cNvSpPr/>
            <p:nvPr/>
          </p:nvSpPr>
          <p:spPr>
            <a:xfrm>
              <a:off x="6708600" y="4690080"/>
              <a:ext cx="94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1"/>
            <p:cNvSpPr/>
            <p:nvPr/>
          </p:nvSpPr>
          <p:spPr>
            <a:xfrm>
              <a:off x="7970760" y="3846960"/>
              <a:ext cx="0" cy="10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2"/>
            <p:cNvSpPr/>
            <p:nvPr/>
          </p:nvSpPr>
          <p:spPr>
            <a:xfrm flipH="1">
              <a:off x="7655400" y="4931280"/>
              <a:ext cx="31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3"/>
            <p:cNvSpPr/>
            <p:nvPr/>
          </p:nvSpPr>
          <p:spPr>
            <a:xfrm>
              <a:off x="8114040" y="3955680"/>
              <a:ext cx="330840" cy="108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34"/>
            <p:cNvSpPr/>
            <p:nvPr/>
          </p:nvSpPr>
          <p:spPr>
            <a:xfrm>
              <a:off x="5761440" y="4690080"/>
              <a:ext cx="946800" cy="48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Декодиров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5"/>
            <p:cNvSpPr/>
            <p:nvPr/>
          </p:nvSpPr>
          <p:spPr>
            <a:xfrm>
              <a:off x="3867480" y="4690080"/>
              <a:ext cx="944640" cy="48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оверк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6"/>
            <p:cNvSpPr/>
            <p:nvPr/>
          </p:nvSpPr>
          <p:spPr>
            <a:xfrm>
              <a:off x="4814640" y="4690080"/>
              <a:ext cx="944640" cy="48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еобразов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7"/>
            <p:cNvSpPr/>
            <p:nvPr/>
          </p:nvSpPr>
          <p:spPr>
            <a:xfrm>
              <a:off x="710280" y="4569840"/>
              <a:ext cx="1735920" cy="48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Использование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8"/>
            <p:cNvSpPr/>
            <p:nvPr/>
          </p:nvSpPr>
          <p:spPr>
            <a:xfrm flipH="1">
              <a:off x="2446560" y="4810320"/>
              <a:ext cx="31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9"/>
            <p:cNvSpPr/>
            <p:nvPr/>
          </p:nvSpPr>
          <p:spPr>
            <a:xfrm>
              <a:off x="4972320" y="3725640"/>
              <a:ext cx="2051640" cy="36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ОМЕХИ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40"/>
            <p:cNvSpPr/>
            <p:nvPr/>
          </p:nvSpPr>
          <p:spPr>
            <a:xfrm flipV="1">
              <a:off x="6866280" y="3364200"/>
              <a:ext cx="31536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1"/>
            <p:cNvSpPr/>
            <p:nvPr/>
          </p:nvSpPr>
          <p:spPr>
            <a:xfrm>
              <a:off x="6866280" y="3725640"/>
              <a:ext cx="31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Информационное обеспе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назначено для от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и, характеризующ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ояние управляемого объекта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ющейся основой для при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вленческих реше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уществляется благодаря созд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ых сис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4"/>
          <p:cNvGraphicFramePr/>
          <p:nvPr/>
        </p:nvGraphicFramePr>
        <p:xfrm>
          <a:off x="6516720" y="404640"/>
          <a:ext cx="2627280" cy="22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404640"/>
                    <a:ext cx="2627280" cy="22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137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некоторые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веден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овокупность данных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имеющих практическое зна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нформационная систе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овокупность информации, экономико-математических методов, технических, программных средств, специалистов, предназначенная для обработки информации и принятия управленческих 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е систем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ключают в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ок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лы пере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сители 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ческие средства фиксирования, передачи, поиска и обработки да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ификация информационных сист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ализованные и децентрализова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ексные и лок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ые и 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ственные и научно-техн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ы ручной, механизированной и автоматизированной обработки информ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нформационная техн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системно-организованна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следовательность операций, выполняемых над информаци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 использованием средств и методов автомат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ые техн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4"/>
          <p:cNvGrpSpPr/>
          <p:nvPr/>
        </p:nvGrpSpPr>
        <p:grpSpPr>
          <a:xfrm>
            <a:off x="468360" y="2205000"/>
            <a:ext cx="8207280" cy="4000680"/>
            <a:chOff x="468360" y="2205000"/>
            <a:chExt cx="8207280" cy="4000680"/>
          </a:xfrm>
        </p:grpSpPr>
        <p:sp>
          <p:nvSpPr>
            <p:cNvPr id="236" name="AutoShape 5"/>
            <p:cNvSpPr/>
            <p:nvPr/>
          </p:nvSpPr>
          <p:spPr>
            <a:xfrm>
              <a:off x="468360" y="2205000"/>
              <a:ext cx="8207280" cy="40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6"/>
            <p:cNvSpPr/>
            <p:nvPr/>
          </p:nvSpPr>
          <p:spPr>
            <a:xfrm>
              <a:off x="3056400" y="3233520"/>
              <a:ext cx="268308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МЕТОДЫ СВЯЗ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7"/>
            <p:cNvSpPr/>
            <p:nvPr/>
          </p:nvSpPr>
          <p:spPr>
            <a:xfrm>
              <a:off x="5834520" y="2433600"/>
              <a:ext cx="268344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КОМПЬЮТЕРЫ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8"/>
            <p:cNvSpPr/>
            <p:nvPr/>
          </p:nvSpPr>
          <p:spPr>
            <a:xfrm>
              <a:off x="468360" y="2433600"/>
              <a:ext cx="321984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ОБЫЧНЫЕ СРЕДСТВА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9"/>
            <p:cNvSpPr/>
            <p:nvPr/>
          </p:nvSpPr>
          <p:spPr>
            <a:xfrm flipH="1">
              <a:off x="2203920" y="2205000"/>
              <a:ext cx="220932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0"/>
            <p:cNvSpPr/>
            <p:nvPr/>
          </p:nvSpPr>
          <p:spPr>
            <a:xfrm>
              <a:off x="4730040" y="449136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ЕЧАТЬ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1"/>
            <p:cNvSpPr/>
            <p:nvPr/>
          </p:nvSpPr>
          <p:spPr>
            <a:xfrm>
              <a:off x="4730040" y="4834080"/>
              <a:ext cx="3630240" cy="34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АКУСТИЧЕСКАЯ ПЕРЕДАЧ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2"/>
            <p:cNvSpPr/>
            <p:nvPr/>
          </p:nvSpPr>
          <p:spPr>
            <a:xfrm>
              <a:off x="783360" y="4148280"/>
              <a:ext cx="3630240" cy="34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ЛИЧНОЕ ОБЩЕ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3"/>
            <p:cNvSpPr/>
            <p:nvPr/>
          </p:nvSpPr>
          <p:spPr>
            <a:xfrm>
              <a:off x="4730040" y="551988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ЭЛЕКТРОННАЯ ПОЧТ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4"/>
            <p:cNvSpPr/>
            <p:nvPr/>
          </p:nvSpPr>
          <p:spPr>
            <a:xfrm>
              <a:off x="4730040" y="5176800"/>
              <a:ext cx="3630240" cy="34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АУДИОВИЗУАЛЬНАЯ ТЕХНИК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5"/>
            <p:cNvSpPr/>
            <p:nvPr/>
          </p:nvSpPr>
          <p:spPr>
            <a:xfrm>
              <a:off x="783360" y="449136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ГРУППОВАЯ БЕСЕД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6"/>
            <p:cNvSpPr/>
            <p:nvPr/>
          </p:nvSpPr>
          <p:spPr>
            <a:xfrm>
              <a:off x="783360" y="483408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ОНФЕРЕНЦИЯ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7"/>
            <p:cNvSpPr/>
            <p:nvPr/>
          </p:nvSpPr>
          <p:spPr>
            <a:xfrm>
              <a:off x="4730040" y="414828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ТЕЛЕКОММУНИКАЦИИ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8"/>
            <p:cNvSpPr/>
            <p:nvPr/>
          </p:nvSpPr>
          <p:spPr>
            <a:xfrm flipH="1">
              <a:off x="2741040" y="3690360"/>
              <a:ext cx="1578240" cy="4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9"/>
            <p:cNvSpPr/>
            <p:nvPr/>
          </p:nvSpPr>
          <p:spPr>
            <a:xfrm>
              <a:off x="4319640" y="3690360"/>
              <a:ext cx="2051640" cy="4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Line 20"/>
          <p:cNvSpPr/>
          <p:nvPr/>
        </p:nvSpPr>
        <p:spPr>
          <a:xfrm flipH="1">
            <a:off x="2195280" y="1557360"/>
            <a:ext cx="2376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4572000" y="1557360"/>
            <a:ext cx="2448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2"/>
          <p:cNvSpPr/>
          <p:nvPr/>
        </p:nvSpPr>
        <p:spPr>
          <a:xfrm>
            <a:off x="4572000" y="1557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бор и регистрация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истр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машинном носителе, вдокумен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информационную сис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вода и регист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редача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каналы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бщений с обратным преобразо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работка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нформации в сис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вод и контр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ображе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Хранение, поиск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и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 по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дача и актуализ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 выдачи и отоб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нализ, подготовка принятия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сходной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з и корректир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готовка принятия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язь характера информации с управленческими решени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5280" y="1628640"/>
          <a:ext cx="8229600" cy="4583160"/>
        </p:xfrm>
        <a:graphic>
          <a:graphicData uri="http://schemas.openxmlformats.org/drawingml/2006/table">
            <a:tbl>
              <a:tblPr/>
              <a:tblGrid>
                <a:gridCol w="2386080"/>
                <a:gridCol w="2089080"/>
                <a:gridCol w="1655640"/>
                <a:gridCol w="2098800"/>
              </a:tblGrid>
              <a:tr h="1132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 информаци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а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лна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8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определенностью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ком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неопределенностью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ивные ожидан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значны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днозначны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ивные ощущен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ренност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веренност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Используемые техн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формирования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обработки изобра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еотех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визуа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виртуальной ре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обработки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обработки и преобразования сигн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электронной под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нный оф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нная поч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овременные технологии, используемые в управленческ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137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ультимедиатехн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йрокомпьютерные 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ъектно-ориентированная техн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хнология управления зна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тернет-техн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91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95280" y="1125360"/>
          <a:ext cx="8280360" cy="5737320"/>
        </p:xfrm>
        <a:graphic>
          <a:graphicData uri="http://schemas.openxmlformats.org/drawingml/2006/table">
            <a:tbl>
              <a:tblPr/>
              <a:tblGrid>
                <a:gridCol w="3591000"/>
                <a:gridCol w="4689360"/>
              </a:tblGrid>
              <a:tr h="75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общему назначению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рективная, справочно-информацион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целевому назначению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овая, отчетно-статистическая, научно-техническая, административная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характеру носителей информаци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ированная, (отчеты, справки) недокументирован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степени обработк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ная, Первичная, вторич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источнику поступл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яя, внешня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направлению движ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ходящая, исходящ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периодичност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ическая, разов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форме представл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сьменная и устная, цифровая, буквенная, кодирован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насыщенност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аточная, недостаточная, избыточ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ы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137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ческ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ческ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ебования, предъявляемые к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137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(полнота, достаточ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ность (достовер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бкость (возможность применения технических средств обработки и передач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ность сбора и пере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щ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значность (инф не должна допуск различ толк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оммуникация и коммуникационный проце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муник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общение людей в процессе совместной деятельности, обмен информацией, идеями, мыс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муникационный процес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процесс передачи информации от одного человека другому или другим людям. Одной из самых простых форм этого процесса можно считать разговор двух людей, находящихся ряд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ные формы коммуникации представляют собой множество прямых и непрямых путей доведения информации до тысяч или миллионов людей в виде сложных процессов. Независимо от сложности коммуникационного процесса его схема состоит из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тырех элемен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роходит через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есть стад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рис. 1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1:46:36Z</dcterms:created>
  <dc:creator>Tyrex</dc:creator>
  <dc:description/>
  <dc:language>en-US</dc:language>
  <cp:lastModifiedBy>LEGION</cp:lastModifiedBy>
  <dcterms:modified xsi:type="dcterms:W3CDTF">2016-01-11T10:01:57Z</dcterms:modified>
  <cp:revision>70</cp:revision>
  <dc:subject/>
  <dc:title>Информация и коммуникация в управлении</dc:title>
</cp:coreProperties>
</file>